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8DB-8E16-416F-BF50-D6ECAEB6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41D-E375-4A9A-A64E-7E52AEB6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1D7-074A-47DB-8006-E08D3C80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2E1-C3C9-4D08-B901-A047ED4D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F23-FB79-4D99-81B9-6D480740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B0A-0D55-4E00-A35A-DC1D9463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18D-558D-4452-8EDD-B925679A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180-2A95-48A6-A7DF-9497EA2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47F-1AE9-4653-B1F1-A2BDB973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477-1AEC-4125-99E2-0356033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5C3-FF43-4C72-84EC-C0788FC5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850-4EA1-4BCD-9514-E2B0D06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5E63-8B64-4B8A-9C79-80F98E1D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7:41Z</dcterms:modified>
  <cp:revision>40</cp:revision>
  <dc:subject/>
  <dc:title>スライド 1</dc:title>
</cp:coreProperties>
</file>