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56E-7BF5-45A4-A3B0-110F63B4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614-7FB4-4927-875E-CCC8AA90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38B-169C-4AA2-9647-8E51906D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402-230E-4A3F-9E9A-DA8C43DF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BC6-1350-4036-9A91-31B12153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32B-639C-41EF-A71C-DB2982E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31E-5C09-4CFA-A03E-49DA945E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7DC-189E-49AA-8A34-0399DA3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A98-5C02-4481-AE7E-45574153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C4E-BBCD-4BA4-862F-9031FCA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3C9-7576-4A50-B3BE-3B7BEB02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ACF-55E4-49F1-9438-8B58E39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1738-9468-4A91-B1E9-8134B1E1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51:12Z</dcterms:modified>
  <cp:revision>40</cp:revision>
  <dc:subject/>
  <dc:title>スライド 1</dc:title>
</cp:coreProperties>
</file>